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562464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3263760" y="509400"/>
            <a:ext cx="3399120" cy="25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DFEE-B23F-4343-AFF7-351AE715D944}" type="slidenum">
              <a:rPr b="0" lang="en-Z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9A75-6C8B-4FA2-AB80-2E1F12C95821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07ED-4C16-41C7-B2DB-8BE83FBF4855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5A1E-A6FB-413B-AA0B-260C082B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A420-0A3C-4D6D-A372-946F19FA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349B-EA75-4DD8-8D93-46E42F56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FB21-3671-4BE6-9333-5BB249EF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B8B5-EF3A-4A17-B456-1E9B2D99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40B7-C972-4AA8-8C94-9EE15492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5CC3-1C04-469A-863F-284398A4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3C00-E5BE-465A-93E7-88B665E4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564B-D6DA-4A52-A7BC-99D128C9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97E5-010A-458F-B280-0E00276E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D7B4-BAD8-4E85-93A0-D72B37D9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90AC-5D98-4ED1-AC3F-0844BF46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49F1-212C-45D2-9E08-9741EADE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C5FC-6A4B-4547-9571-68C42AF9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7219-DF4E-4F44-B054-49C9B5C1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8E56-3D3B-4821-BC17-A36FB1B3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6F16-019F-4140-9E34-7F2FC364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7BC1C-7B29-4118-93C3-5AA8E42C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35628-4E9A-4275-AD9C-DECA1E60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34317-950E-4AEB-AB96-DE534786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0F456-310E-4FDB-8370-8893895C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722E6-F977-438B-85BB-07400874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383A-B597-41A8-A756-82CE7BEF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89766-8978-492E-B337-D313FB15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E988E-9821-4247-A228-97B63ADF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34143-9217-4BA5-BEA7-24AB3A6B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DDC65-F3A2-476F-9C5B-21798C94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16D29-68F1-48FC-A75C-B1033C51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CAC3C-977A-4353-AACE-9D30823D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22C4A-874A-4ECA-A006-9C1532FB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1A6F2-5A52-4A30-AC72-723C15CD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90598-5EEB-4CF0-985E-7A410316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9C9A9-01F6-4ED5-A22F-11A21FE4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1EA3-9F64-4F53-9C68-6666AA35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ED8E1-B8AF-4CFF-88BF-AC73BFA6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9A32B-D6FF-4964-8BDF-9A383D7F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7872C-9336-466B-AE19-0524512B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EA4F8-C493-44B1-9CB0-D0CE4FE7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5DE36-603B-4984-ACFB-2ACCEADD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1ACA6-57CC-40F2-9B5B-350B74DE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20F5A-273A-41AD-A748-88FCBA79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12F25-E7BA-4287-925D-C3F4176B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60822-3B00-4E24-AB3A-ACED32E9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5F0A-8AE2-4506-9BD8-39397906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BF94-2363-436C-8977-E0195FE8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7847-EDC2-4630-8827-7CF26604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C370-CAFE-4C19-8E6F-5B80EEA0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7BA-CF60-408F-8E72-B3A9D9F6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3C3F-BAA3-4832-A4D9-DDD5326B1FA6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29CC-7A0E-40AB-9904-EF510FC524F6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E3FE-E6CF-4085-8D02-C8CFD307647E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CDC0-9522-4C71-B397-E876398035F9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378D-7E0F-4554-B955-770FD9B56EC8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2D0D-EB4E-4E0C-BD7A-749C3E3CB23F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026B-03CF-49ED-931F-64D2E96AC825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CE99-4DD2-4B41-97C5-B838DC9BB580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1176480"/>
            <a:ext cx="26431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4617b"/>
                </a:solidFill>
                <a:latin typeface="Century Gothic"/>
              </a:rPr>
              <a:t>BEAUFORT WES MUNISIPALITEIT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KONSEP BEGRO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2021/2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0EEB-F35A-4313-B074-DE108ACD5E56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der algemene uitgawes behels die volgend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D4F1-BF0F-4352-B63C-AD56770F61B3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tarief verhogings word voorgestel vir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Belasting                                 - 5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Water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ullis                                        - 9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iool  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Elektrisiteit                               - 17.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verse tariewe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521C-1AA8-4B0C-A28A-223D7324200F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Groot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681 000 (R 70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3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4950-7DFA-4E16-BA66-E92D4FABCB7E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4897-B9D8-4A6D-B175-DFFC93385F81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Medium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431 000 (R 45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6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5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3D08-28B8-4678-8219-6093ADE61301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9145-A91E-45C7-BDD1-6BF529693A02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457200" y="2468520"/>
            <a:ext cx="82296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Klein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11 600 (R 30 6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200 eenhe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6DEB-8B8A-4FCF-A5E3-CFA17AD15B21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3622-C925-4355-AE08-15A4ED474288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1"/>
          <a:stretch/>
        </p:blipFill>
        <p:spPr>
          <a:xfrm>
            <a:off x="457200" y="2847960"/>
            <a:ext cx="82296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`n Bedrag van R 41.07 miljoen word toegewys aan die verskaffing van gratis dienste in terme van die Raad se Deernis Beleid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aan huishoudings met ‘n inkomste vanaf R0,00 tot R1,890 beloop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50 kWh Elektrisiteit,   6 kl water per maand en 10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aan huishoudings met ‘n inkomste vanaf R1,891 tot R3,780 beloop 50 kWh Elektrisiteit,   6 kl water per maand en 7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FFD6-9E6D-4180-AA07-AE102DE06458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AF4C-9FB3-46DD-9F51-797450BAB3CB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INLEIDING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Voorgestelde Bedryfs en Kapitaal begrotings was voorberei inaggenome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munisipaliteit se GOP (IDP)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Nasionale Tesourie se voorskrifte;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Nasionale, Provinsiale en Plaaslike Ekonomiese omstandighede waaraan ons munisipaliteit blootgestel is; e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Plaaslike Ekonomiese Ontwikkel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5EFF-36C2-4D50-9C9E-6C15EDEC16D0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2D9D-A173-4632-B203-AF813D6FE4DA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CE81-BC42-4A0B-90B3-2FDC7069A4E3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1547640" y="3219480"/>
            <a:ext cx="626436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entury Gothic"/>
              </a:rPr>
              <a:t>Korting toegestaan aan Pensionariss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7F3E-F35D-4281-892F-9B39979C315B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Content Placeholder 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176480"/>
            <a:ext cx="246240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Thank</a:t>
            </a: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 You</a:t>
            </a: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Baie Danki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entury Gothic"/>
              </a:rPr>
              <a:t>enKos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4" name="Object 2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15F2-64E2-4332-8B22-8E5315BEF981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s was gemaak met die opstel van die begrot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beraamde VPI deur Nasionale Tesourie van 4.1% vir die 2021/22 finansiële jaar en 4.4%; 4.5% vir die daaropvolgende twee jar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Salaris aanpassing vir 2021/22 is gebasseer op TASK skale plus 4.0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erhoging in koste van grootmaat elektrisiteit aankope is 17.8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oorsiening vir oninbare skulde beloop 6.8% van alle dienste en belasting heffing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70D1-C5F7-42ED-8CA7-902982FA048B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773360"/>
            <a:ext cx="822960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Alhoewel die verwagte inflasie koers soos geprojekteer deur Nasionale Tesourie 4.1% gaan beloop vir 2021/22 sal die bedryfs uitgawes met ‘n hoër persentasie styg weens die groei in inset kos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86D3-4230-4A9F-954F-F660BA244557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`n Kapitaal Begroting van R 23,465 miljoen word voorgestel vir 2021/22 (R 27,245miljoen &amp;  R22,523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kapitaalbegroting word as volg gefinansie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2647-C130-47BE-A6F7-89CF7F511CFF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7859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is `n opsomming van die groter kapitaal projekte wat onderneem sal word gedurende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13B7-920B-4B8C-BCBD-ADC0D5C1C5F1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463680" y="2692440"/>
            <a:ext cx="8140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41000"/>
            <a:ext cx="82296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verwagte inkomste vir die 2021/22 finansiële jaar beloop R 357,070 miljoen (R 383,084 miljoen en             R 381,453 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hoof inkomste bronne i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8A08-2A81-49CF-A863-4D4C419A8D2B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81471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Ander eie inkomste behels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33DC-391B-4D15-B4D6-993715026CBA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684360" y="2543040"/>
            <a:ext cx="7416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geprojekteerde bedryfsuitgawe vir die 2021/22 finansiële jaar beloop R 354,392 miljoen (R 375,528 miljoen en R 375,528 miljoen vir die daaropvolgende twee jare). Die hoof uitgawe items is as vol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E0AF-047B-4AE1-9726-FD9109468FB2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" descr=""/>
          <p:cNvPicPr/>
          <p:nvPr/>
        </p:nvPicPr>
        <p:blipFill>
          <a:blip r:embed="rId1"/>
          <a:stretch/>
        </p:blipFill>
        <p:spPr>
          <a:xfrm>
            <a:off x="457200" y="3219480"/>
            <a:ext cx="82296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6:53:20Z</dcterms:created>
  <dc:creator>user29</dc:creator>
  <dc:description/>
  <dc:language>en-US</dc:language>
  <cp:lastModifiedBy>HP</cp:lastModifiedBy>
  <cp:lastPrinted>2021-05-04T10:44:47Z</cp:lastPrinted>
  <dcterms:modified xsi:type="dcterms:W3CDTF">2021-05-18T10:26:48Z</dcterms:modified>
  <cp:revision>232</cp:revision>
  <dc:subject/>
  <dc:title>BEAUFORT WEST MUNICIPALITY</dc:title>
</cp:coreProperties>
</file>